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71930"/>
        <c:axId val="44043296"/>
      </c:barChart>
      <c:catAx>
        <c:axId val="57071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43296"/>
        <c:crosses val="autoZero"/>
        <c:auto val="1"/>
        <c:lblAlgn val="ctr"/>
        <c:lblOffset val="100"/>
        <c:noMultiLvlLbl val="0"/>
      </c:catAx>
      <c:valAx>
        <c:axId val="44043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71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D2C-3523-4319-BBDF-AD9731CE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7BD-D856-4774-BC26-A111EB71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47A-167F-4782-AB6D-EEDFC229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86F-B45C-412A-9BC4-F3CB8089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417-D6D4-4462-9981-64FB2C77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9AB-1E3C-4360-B0B7-6281D4EC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C98-AFF3-4D9B-8AD1-11B1BF3D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7EC-E449-4255-88C5-74DE6CEC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AD0-D3A8-47D0-8814-B0B767B2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465-69E8-4E93-B319-2D8D7B75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C8B-D615-4BAF-9F5C-0E87817A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731-EEEF-491B-9637-3906C24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41C83-55AA-46F6-B848-5CE11E5006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