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492235"/>
        <c:axId val="25086295"/>
      </c:barChart>
      <c:catAx>
        <c:axId val="54492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6295"/>
        <c:crosses val="autoZero"/>
        <c:auto val="1"/>
        <c:lblAlgn val="ctr"/>
        <c:lblOffset val="100"/>
        <c:noMultiLvlLbl val="0"/>
      </c:catAx>
      <c:valAx>
        <c:axId val="250862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492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045-68CB-4BA9-ABC4-7340A7A7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6F4-881A-48D0-B031-243D1FD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32E-0ED1-43B4-9A5C-7B8FCF1A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01E1-F74B-4EA3-8496-2C04DD8D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C82-2479-46A0-A964-1F211B47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E0A-4905-4BFC-9173-1D979894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F08D-F904-411B-AC47-0C513AA8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E39-319C-42CC-94F9-226EA44C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D15-0547-4E28-8512-2DEA3D4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A3A-9D75-4647-B053-FB234B83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0173-D286-4B8A-9565-21BF99AE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2076-6C5C-4395-A70D-57BAB06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8DE6D-2F86-43C3-82CF-520913C22A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