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209377"/>
        <c:axId val="10254501"/>
      </c:barChart>
      <c:catAx>
        <c:axId val="812093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54501"/>
        <c:crosses val="autoZero"/>
        <c:auto val="1"/>
        <c:lblAlgn val="ctr"/>
        <c:lblOffset val="100"/>
        <c:noMultiLvlLbl val="0"/>
      </c:catAx>
      <c:valAx>
        <c:axId val="102545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093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52FB-BB26-4D6E-A674-D46C618C3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3631-4600-4B40-A866-01A2CC73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D05F-D602-45CB-8A66-8DA938FD2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4310-DC7A-45D0-99CE-95617616B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68CB-A43E-44AF-A666-576A2F8B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969B-D1EC-4B38-B6F6-1E5D637C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104D-654C-4702-B7A8-2D32F863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CB5A-C686-4939-860B-C4A2BF14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F72C-F633-4C97-A6CB-91E79CE9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B51F-5DCC-41C7-B86E-14E7D866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AE1C-7E1D-4482-A637-51E75E84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E130-9238-48A6-B21E-7ED57A03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2970AF-15B1-43B2-8169-05466E3BBD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