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219239"/>
        <c:axId val="94343473"/>
      </c:barChart>
      <c:catAx>
        <c:axId val="692192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43473"/>
        <c:crosses val="autoZero"/>
        <c:auto val="1"/>
        <c:lblAlgn val="ctr"/>
        <c:lblOffset val="100"/>
        <c:noMultiLvlLbl val="0"/>
      </c:catAx>
      <c:valAx>
        <c:axId val="943434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192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D595-F581-4D51-B6F2-75AB3B383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A1B8-9574-4E76-A523-EDE3AA12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EE73-8910-4A8B-A5A7-9671D043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0698-CF16-4632-A6C8-8797E28FC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099D-696B-45A2-AE0E-3794E062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8168-BF23-4D65-9ECE-20574011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BA1F-2025-40AE-96D7-4BCBFC26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AB3E-9D10-41B7-8C24-9398D688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4966-7E6A-4BAA-BB5C-A406430E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268C-EE88-43C9-920D-E863C7D4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6B1C-5346-4865-BBA8-4A4738EA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7084-CA57-471D-936F-4A8D869B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7C8F4-2142-4812-9459-A77E089284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