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67820"/>
        <c:axId val="2879471"/>
      </c:barChart>
      <c:catAx>
        <c:axId val="86367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9471"/>
        <c:crosses val="autoZero"/>
        <c:auto val="1"/>
        <c:lblAlgn val="ctr"/>
        <c:lblOffset val="100"/>
        <c:noMultiLvlLbl val="0"/>
      </c:catAx>
      <c:valAx>
        <c:axId val="28794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67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447E-3491-41D2-8008-3919DF14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1FB-B5FD-40AA-8432-04D501E6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E19A-6838-4DCC-9AE0-71DC8902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CA6-63B2-44C2-9FD1-4A968D7E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99EC-75F8-49DC-8557-2320084D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7E7C-B9A9-4A24-A97E-5196A642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95EE-CEEA-418F-9C98-BB332676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89B-3515-4E78-B12C-9F5214D5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A08-7C6D-45F7-B1FB-C0C9C499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358C-762E-4DBE-8CB5-F96423DD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4292-5A83-427D-846E-B92F0EDC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73BB-EB0D-467F-B39D-5F2A4284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38D93-7458-4B45-8FF7-BFAF4D7230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