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8487"/>
        <c:axId val="86498538"/>
      </c:barChart>
      <c:catAx>
        <c:axId val="3698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98538"/>
        <c:crosses val="autoZero"/>
        <c:auto val="1"/>
        <c:lblAlgn val="ctr"/>
        <c:lblOffset val="100"/>
        <c:noMultiLvlLbl val="0"/>
      </c:catAx>
      <c:valAx>
        <c:axId val="86498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8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E4F-27D4-4E61-8C3E-BF621523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AAD-9BF3-400E-9344-FEE65819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F06-45A9-49B0-8391-99536BCA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A07-DC21-4645-AE18-79A79BB4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4E7-7479-4540-9753-BDEFEF28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DF5-1301-4F63-8F0D-C76F7488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51B-9AB1-49B7-B247-F6D09010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61A-AD66-45EF-A6E4-F41471A6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467-869E-4EDD-808C-BFADCF7A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A5D-5991-4375-AB17-A6C60E8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C36-72AA-4753-8EAB-5A73C37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C32-CC42-4689-9BFE-B3D3EA63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47BF1-BF56-4389-908E-51F4485E5D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