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55148"/>
        <c:axId val="90482112"/>
      </c:barChart>
      <c:catAx>
        <c:axId val="63055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82112"/>
        <c:crosses val="autoZero"/>
        <c:auto val="1"/>
        <c:lblAlgn val="ctr"/>
        <c:lblOffset val="100"/>
        <c:noMultiLvlLbl val="0"/>
      </c:catAx>
      <c:valAx>
        <c:axId val="90482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5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00D-D7D1-4BAD-9CF6-9512836C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A9D-5A39-4572-B3B4-01E02712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657-6A90-4E1A-B749-AAB413D2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5A9-4D45-4C26-8949-09F18E72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4B9-FD64-4B0F-9991-35B14E3A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DD0-A00F-4621-8A95-695DACE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C84-6A5F-46C6-BE30-309DF475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CA5-55A7-4B07-949B-BC49E72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F8D-9FAB-4E14-A0C8-088A2590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675-0015-42AA-B051-B76BC82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ABA-DDC0-40DD-8AD3-F7A5049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1B1-D680-42A8-A6D2-00F0409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9FE72-4E29-4CDE-A129-441D3B876C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