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53309"/>
        <c:axId val="76477336"/>
      </c:barChart>
      <c:catAx>
        <c:axId val="29853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77336"/>
        <c:crosses val="autoZero"/>
        <c:auto val="1"/>
        <c:lblAlgn val="ctr"/>
        <c:lblOffset val="100"/>
        <c:noMultiLvlLbl val="0"/>
      </c:catAx>
      <c:valAx>
        <c:axId val="76477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53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F75-51D2-4893-A1A7-DAD2FE08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844-2BF7-420C-901B-3496CC44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BAA-0111-4509-AF62-8227CEC1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644-7CDB-4072-83F7-FDBE2952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058-43B3-4700-9CAB-5359C110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89B-C576-44E0-9AFA-F4F10F66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B62-4798-444B-8A6F-1EAF7CD0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B2E9-831F-4C24-AB19-D7969DC8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A3F-6A4F-43A4-82BF-BB94DC9F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FED-03A4-431C-85F3-50B991A0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F76D-3514-437E-8ED3-48D6CF7F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180-8AEB-4559-B9A1-FBF43464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1A2E4-D060-4351-BC4F-69D297A12A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