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71106"/>
        <c:axId val="23170197"/>
      </c:barChart>
      <c:catAx>
        <c:axId val="87871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70197"/>
        <c:crosses val="autoZero"/>
        <c:auto val="1"/>
        <c:lblAlgn val="ctr"/>
        <c:lblOffset val="100"/>
        <c:noMultiLvlLbl val="0"/>
      </c:catAx>
      <c:valAx>
        <c:axId val="23170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71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41F-3B39-4173-AAF8-45C4B695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2AF-F60A-4FDB-8B5C-8FF6FF50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604-C653-474F-AEF0-45A334C2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A7C-76A6-4405-AD3E-CCFC8592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4FD-F630-4DDF-A0E3-AACD7936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413-333C-4E61-858A-8518E8AD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E6E-7ABB-4E4E-9386-BD23A9E5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70A-6D1D-4CFE-A901-9C9F9B48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9C0-FAB8-421C-A45F-63768847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E97-A0F4-401C-96A0-810C1021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CF4-4729-45B8-856F-53928CA9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FCB-7595-40FC-A966-424DEFD9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C9CF5-559A-4ED7-9FF7-770966926B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