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490143"/>
        <c:axId val="76794154"/>
      </c:barChart>
      <c:catAx>
        <c:axId val="184901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794154"/>
        <c:crosses val="autoZero"/>
        <c:auto val="1"/>
        <c:lblAlgn val="ctr"/>
        <c:lblOffset val="100"/>
        <c:noMultiLvlLbl val="0"/>
      </c:catAx>
      <c:valAx>
        <c:axId val="767941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4901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F6C1-AAFB-46C8-B3D7-803A848C8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C4BE-A396-4914-8CF8-D333B8596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CA82-0E73-487E-A0D0-FDF8C6CF3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04CC-9D8D-45B8-9F52-E456F024A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697C-255E-4CBD-9012-D488EFD00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997B-A3B5-45B0-9640-ABF4006C1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0CE4-BB55-41C9-A4FB-C86F0B917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6370-98A5-42CB-A278-EBF6A8D1A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F661-D02A-4FFC-B8F6-F7909D8F4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825B-A85B-4A96-ADAA-69C23D637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A0E1-6B6E-488F-B1FA-45304939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D159-85FD-4ECE-8B50-6AFF27010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87D312-B402-40EC-8115-EF43CAE6551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