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25602"/>
        <c:axId val="50418662"/>
      </c:barChart>
      <c:catAx>
        <c:axId val="9132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18662"/>
        <c:crosses val="autoZero"/>
        <c:auto val="1"/>
        <c:lblAlgn val="ctr"/>
        <c:lblOffset val="100"/>
        <c:noMultiLvlLbl val="0"/>
      </c:catAx>
      <c:valAx>
        <c:axId val="50418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2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A1B0-C002-470C-9472-FD52172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D3C-12BE-400E-B420-AFD7710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EF6-6095-4EEE-A6C2-1838B7EC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CDF-97D5-4689-A04F-E10C7BE1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C8C-D768-4E54-9F8F-C8A47514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19A-9134-4459-9E38-54B6EAB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E92-9F8A-4F7E-85F3-BA14FFDF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65B-86EB-488C-BD0A-9486487F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4C7-96B8-4246-B096-2F62C5B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6AF-7D41-4312-A7A5-9C8FB6A8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E8B5-0A88-43E7-89E3-97D6A724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2C9-8E0B-4E9A-B319-9E5F414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4A33C-9560-429C-A4BA-611FA3DF04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