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323164"/>
        <c:axId val="48637666"/>
      </c:barChart>
      <c:catAx>
        <c:axId val="683231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637666"/>
        <c:crosses val="autoZero"/>
        <c:auto val="1"/>
        <c:lblAlgn val="ctr"/>
        <c:lblOffset val="100"/>
        <c:noMultiLvlLbl val="0"/>
      </c:catAx>
      <c:valAx>
        <c:axId val="486376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3231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9FD8-F9F1-4DF7-A5BB-7C7C22BFB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85E8-012F-499C-976A-5227F2FF4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6CA3-CFAC-4087-B8D9-137AB6E44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9F50-0F28-40A4-BFB6-9ACB101FE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5A0C-D51B-42E3-A185-277D00CA8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4569-865D-479C-B970-4B062A976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F356-0158-47F5-9F11-F64E6A8E7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CEA2-3F73-410A-85E1-5366CE576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1B70-4FEA-42EE-AD5E-16F85C4C2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4C69-B8C6-46B7-9E59-076FF8153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44A0-BC88-4CA3-B650-8CF6D40A1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93E6-70AD-4839-98AE-DC467D23C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A5DA56-D1B4-48FA-940B-5DD319B1984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